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0DD-8D91-4792-8490-15C9F2CE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00C-52DB-4741-9657-995993CB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7FE-D8CE-49BD-AB04-488C4C5D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F44-B013-425C-8F04-70CD9478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6485-BEAB-4711-98EC-FB0ECB76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2E6A-735A-4BE4-9436-762A41AC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3AAC-8DE4-4DB4-B8EC-C3F29AC3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95FC-6272-4468-9EEE-9F5FE925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4D22-447F-48B5-AE63-1807235C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2B3A-319A-4F9F-8C2E-CB11E58D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3AB9-F82F-4BC6-8857-EEDB2D94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F1B-CC4B-4CEA-89EB-DDB046B9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5425-7308-49A6-853E-07F1C1A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DF0B-2D29-4733-AC60-7E9CABD2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6AE7-F924-470E-A552-94D48973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4038-6CEB-4FFA-86DF-EF1CEB5E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C189-0865-462F-8046-186A0FB7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380-639A-43D7-89CD-5A1A70F6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859-81C3-401E-B765-52B1E5B7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40F-6477-4C28-A318-0607348C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7BF-0077-4CD2-89A1-C8F884A4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760-441A-41C8-A48B-E906176C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68A-5913-4F46-B7F6-67FB43F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241-FEA0-45B4-8DDB-C274D859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2E0A-D8FC-45F6-A50E-A83F0FB7EF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D580-76BF-4F20-A85F-EB2AD8233B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571680"/>
            <a:ext cx="7238880" cy="26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Тема: Приготовление растворов с определенной массовой долей растворенного веществ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28800" y="3929040"/>
            <a:ext cx="59292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техович Светлана Валентиновна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БОУ ООШ № 3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.В. Ластовицк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гирова Екатерина Александровн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 МБОУ ООШ № 3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.В. Ластовицк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tb_MCj0348667" descr="Имя файла: j0348667.wmf"/>
          <p:cNvPicPr/>
          <p:nvPr/>
        </p:nvPicPr>
        <p:blipFill>
          <a:blip r:embed="rId1"/>
          <a:stretch/>
        </p:blipFill>
        <p:spPr>
          <a:xfrm>
            <a:off x="7072200" y="4357800"/>
            <a:ext cx="17272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5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6" descr="D:\TB-v-kabinete-himii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489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ыполнение практической работы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313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С помощью весов отмерить нужное количество соли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Мерным цилиндром  отмерить определенное количество воды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риготовить раствор путем соединения данных компонент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Заполнить таблиц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tb_MCj0361168" descr="Имя файла: j0361168.wmf"/>
          <p:cNvPicPr/>
          <p:nvPr/>
        </p:nvPicPr>
        <p:blipFill>
          <a:blip r:embed="rId1"/>
          <a:stretch/>
        </p:blipFill>
        <p:spPr>
          <a:xfrm>
            <a:off x="7143840" y="52149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55640" y="571680"/>
          <a:ext cx="7993080" cy="5344920"/>
        </p:xfrm>
        <a:graphic>
          <a:graphicData uri="http://schemas.openxmlformats.org/drawingml/2006/table">
            <a:tbl>
              <a:tblPr/>
              <a:tblGrid>
                <a:gridCol w="2592360"/>
                <a:gridCol w="2735280"/>
                <a:gridCol w="2665440"/>
              </a:tblGrid>
              <a:tr h="132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дела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аблюда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ое количество (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 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сульфата меди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растворили в заданном объеме (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0 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вод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 растворилась в вод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ли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%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й раствор сульфата меди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tb_MCj0351956" descr="Имя файла: j0351956.wmf"/>
          <p:cNvPicPr/>
          <p:nvPr/>
        </p:nvPicPr>
        <p:blipFill>
          <a:blip r:embed="rId1"/>
          <a:stretch/>
        </p:blipFill>
        <p:spPr>
          <a:xfrm>
            <a:off x="8215200" y="59292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900" spc="-1" strike="noStrike">
                <a:solidFill>
                  <a:srgbClr val="0033cc"/>
                </a:solidFill>
                <a:latin typeface="Verdana"/>
              </a:rPr>
              <a:t>Применение знан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42"/>
          <p:cNvPicPr/>
          <p:nvPr/>
        </p:nvPicPr>
        <p:blipFill>
          <a:blip r:embed="rId1"/>
          <a:stretch/>
        </p:blipFill>
        <p:spPr>
          <a:xfrm>
            <a:off x="2195640" y="115920"/>
            <a:ext cx="2154240" cy="1852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0000218998-thumb"/>
          <p:cNvPicPr/>
          <p:nvPr/>
        </p:nvPicPr>
        <p:blipFill>
          <a:blip r:embed="rId2"/>
          <a:srcRect l="0" t="0" r="0" b="8870"/>
          <a:stretch/>
        </p:blipFill>
        <p:spPr>
          <a:xfrm>
            <a:off x="4572000" y="189000"/>
            <a:ext cx="1995480" cy="180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etiketka4"/>
          <p:cNvPicPr/>
          <p:nvPr/>
        </p:nvPicPr>
        <p:blipFill>
          <a:blip r:embed="rId3"/>
          <a:stretch/>
        </p:blipFill>
        <p:spPr>
          <a:xfrm>
            <a:off x="6804000" y="549360"/>
            <a:ext cx="2027160" cy="191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03105132_0"/>
          <p:cNvPicPr/>
          <p:nvPr/>
        </p:nvPicPr>
        <p:blipFill>
          <a:blip r:embed="rId4"/>
          <a:stretch/>
        </p:blipFill>
        <p:spPr>
          <a:xfrm>
            <a:off x="6948360" y="2708280"/>
            <a:ext cx="1965600" cy="2568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0083_tomato"/>
          <p:cNvPicPr/>
          <p:nvPr/>
        </p:nvPicPr>
        <p:blipFill>
          <a:blip r:embed="rId5"/>
          <a:stretch/>
        </p:blipFill>
        <p:spPr>
          <a:xfrm>
            <a:off x="755640" y="4149720"/>
            <a:ext cx="3333600" cy="2571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trumb500"/>
          <p:cNvPicPr/>
          <p:nvPr/>
        </p:nvPicPr>
        <p:blipFill>
          <a:blip r:embed="rId6"/>
          <a:stretch/>
        </p:blipFill>
        <p:spPr>
          <a:xfrm>
            <a:off x="4211640" y="4508640"/>
            <a:ext cx="2916360" cy="218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5299850"/>
          <p:cNvPicPr/>
          <p:nvPr/>
        </p:nvPicPr>
        <p:blipFill>
          <a:blip r:embed="rId7"/>
          <a:stretch/>
        </p:blipFill>
        <p:spPr>
          <a:xfrm>
            <a:off x="108000" y="2133720"/>
            <a:ext cx="2638440" cy="1977840"/>
          </a:xfrm>
          <a:prstGeom prst="rect">
            <a:avLst/>
          </a:prstGeom>
          <a:ln w="0">
            <a:noFill/>
          </a:ln>
        </p:spPr>
      </p:pic>
      <p:sp>
        <p:nvSpPr>
          <p:cNvPr id="144" name="Line 20"/>
          <p:cNvSpPr/>
          <p:nvPr/>
        </p:nvSpPr>
        <p:spPr>
          <a:xfrm flipV="1">
            <a:off x="4500720" y="2133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5076720" y="3500280"/>
            <a:ext cx="503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2"/>
          <p:cNvSpPr/>
          <p:nvPr/>
        </p:nvSpPr>
        <p:spPr>
          <a:xfrm flipH="1">
            <a:off x="3708000" y="342900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23"/>
          <p:cNvSpPr/>
          <p:nvPr/>
        </p:nvSpPr>
        <p:spPr>
          <a:xfrm flipV="1">
            <a:off x="5867280" y="263664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4"/>
          <p:cNvSpPr/>
          <p:nvPr/>
        </p:nvSpPr>
        <p:spPr>
          <a:xfrm flipH="1">
            <a:off x="2771640" y="321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642960" y="200016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, одним словом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шний урок – это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1857240" y="765000"/>
            <a:ext cx="4929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Одним словом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Прямоугольник 3" descr=""/>
          <p:cNvPicPr/>
          <p:nvPr/>
        </p:nvPicPr>
        <p:blipFill>
          <a:blip r:embed="rId1"/>
          <a:stretch/>
        </p:blipFill>
        <p:spPr>
          <a:xfrm>
            <a:off x="426960" y="560520"/>
            <a:ext cx="8296200" cy="6714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469800" y="1714680"/>
            <a:ext cx="821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и решить задачу на вычисление массовой доли растворенного веще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шить задач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ли два раствора хлорида натрия. Первый - массой 120г с массовой доле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%, второй - массой 125 г с массовой доле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%. Чему равна масса соли в полученном раствор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ши задач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массовую долю сахара в сиропе, если для его приготовления взя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мл воды и 15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оцен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142880" y="1773360"/>
            <a:ext cx="469908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ть букву, под которой записан правильный отве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 % э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0,4      с) 0,004     б) 0,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5% э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ловина   р) четверть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) пятая ча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68360" y="299736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3068640"/>
            <a:ext cx="372888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/100 = 0, 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84884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ропорция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836280"/>
            <a:ext cx="38383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рция</a:t>
            </a:r>
            <a:r>
              <a:rPr b="0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– равенство двух    </a:t>
            </a:r>
            <a:r>
              <a:rPr b="0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тнош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айние члены пропор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 с – средние члены пропор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новное свойство пропорци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067280" y="785880"/>
            <a:ext cx="50767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уравнение и назовите букву, под которой записан правильный ответ</a:t>
            </a:r>
            <a:br>
              <a:rPr sz="1700"/>
            </a:b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 : 15 = у :4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12        а) 12      о) 0,7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00 : х = 100 : 3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70      к) 0,07     м) 0,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хеме составь задачу и реши е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человек   -  100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человека   -    х %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 20         а) 0,07      е) 0,4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8360" y="1916280"/>
            <a:ext cx="3187800" cy="477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с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39640" y="5084640"/>
            <a:ext cx="3332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5000760" y="4643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8143920" y="4643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928440"/>
            <a:ext cx="7313400" cy="18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ы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–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это гомогенные системы, состоящие из растворителя, растворенного вещества и продуктов их взаимодействия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8800" y="2742840"/>
            <a:ext cx="792936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ая доля растворенного вещест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тношение массы растворенного вещества к общей массе раствора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1"/>
              <p:cNvSpPr txBox="1"/>
              <p:nvPr/>
            </p:nvSpPr>
            <p:spPr>
              <a:xfrm>
                <a:off x="2340000" y="4365720"/>
                <a:ext cx="424800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" name="tb_MCj0361168" descr="Имя файла: j0361168.wmf"/>
          <p:cNvPicPr/>
          <p:nvPr/>
        </p:nvPicPr>
        <p:blipFill>
          <a:blip r:embed="rId1"/>
          <a:stretch/>
        </p:blipFill>
        <p:spPr>
          <a:xfrm>
            <a:off x="730872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16282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2743200"/>
            <a:ext cx="745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8286840" cy="5715000"/>
          </a:xfrm>
          <a:prstGeom prst="rect">
            <a:avLst/>
          </a:prstGeom>
          <a:ln w="0">
            <a:noFill/>
          </a:ln>
        </p:spPr>
      </p:pic>
      <p:pic>
        <p:nvPicPr>
          <p:cNvPr id="117" name="tb_MCj0361168" descr="Имя файла: j0361168.wmf"/>
          <p:cNvPicPr/>
          <p:nvPr/>
        </p:nvPicPr>
        <p:blipFill>
          <a:blip r:embed="rId2"/>
          <a:stretch/>
        </p:blipFill>
        <p:spPr>
          <a:xfrm>
            <a:off x="7572240" y="5634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8358120" cy="5214600"/>
          </a:xfrm>
          <a:prstGeom prst="rect">
            <a:avLst/>
          </a:prstGeom>
          <a:ln w="0">
            <a:noFill/>
          </a:ln>
        </p:spPr>
      </p:pic>
      <p:pic>
        <p:nvPicPr>
          <p:cNvPr id="121" name="tb_MCj0361168" descr="Имя файла: j0361168.wmf"/>
          <p:cNvPicPr/>
          <p:nvPr/>
        </p:nvPicPr>
        <p:blipFill>
          <a:blip r:embed="rId2"/>
          <a:stretch/>
        </p:blipFill>
        <p:spPr>
          <a:xfrm>
            <a:off x="6000840" y="54291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57320" y="-27360"/>
            <a:ext cx="3214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изминутка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Овал 6"/>
          <p:cNvSpPr/>
          <p:nvPr/>
        </p:nvSpPr>
        <p:spPr>
          <a:xfrm>
            <a:off x="1643040" y="1214280"/>
            <a:ext cx="5376960" cy="5094360"/>
          </a:xfrm>
          <a:prstGeom prst="ellipse">
            <a:avLst/>
          </a:prstGeom>
          <a:noFill/>
          <a:ln w="507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Овал 8"/>
          <p:cNvSpPr/>
          <p:nvPr/>
        </p:nvSpPr>
        <p:spPr>
          <a:xfrm>
            <a:off x="1500120" y="3857760"/>
            <a:ext cx="343080" cy="357120"/>
          </a:xfrm>
          <a:prstGeom prst="ellipse">
            <a:avLst/>
          </a:prstGeom>
          <a:solidFill>
            <a:srgbClr val="e02cb1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C 0.00226 -0.03195 0.0007 -0.06389 0.00834 -0.09491 C 0.01077 -0.1169 0.01181 -0.14098 0.02396 -0.1581 C 0.02761 -0.17292 0.02257 -0.15486 0.0283 -0.16736 C 0.03438 -0.18033 0.02448 -0.16598 0.03229 -0.17662 C 0.03455 -0.19028 0.03247 -0.18357 0.03941 -0.19699 C 0.03993 -0.19908 0.03993 -0.20139 0.04097 -0.20278 C 0.04323 -0.20579 0.04688 -0.20602 0.04948 -0.20834 C 0.05104 -0.21482 0.05295 -0.21852 0.0566 -0.22338 C 0.05851 -0.23125 0.06476 -0.24098 0.07066 -0.24375 C 0.07275 -0.24653 0.07587 -0.24792 0.07761 -0.25116 C 0.07865 -0.25255 0.07813 -0.2551 0.07917 -0.25672 C 0.08108 -0.25973 0.0842 -0.26135 0.08629 -0.26435 C 0.0882 -0.27153 0.08854 -0.28264 0.09341 -0.28843 C 0.09705 -0.2926 0.10174 -0.29584 0.10608 -0.29954 C 0.10955 -0.30255 0.1125 -0.3081 0.11615 -0.31088 C 0.11997 -0.31412 0.12587 -0.31435 0.13021 -0.31621 C 0.14063 -0.32084 0.1507 -0.32547 0.1599 -0.3331 C 0.16736 -0.34792 0.15764 -0.3301 0.16702 -0.3426 C 0.1717 -0.34885 0.17118 -0.35023 0.1783 -0.35324 C 0.18733 -0.36574 0.20747 -0.36644 0.21945 -0.36829 C 0.23403 -0.375 0.24375 -0.37292 0.26198 -0.37385 C 0.27309 -0.37848 0.28282 -0.38079 0.29462 -0.3831 C 0.31771 -0.38172 0.34375 -0.3831 0.36667 -0.37385 C 0.37466 -0.35787 0.39167 -0.35718 0.40486 -0.35533 C 0.41181 -0.35209 0.4165 -0.34885 0.42205 -0.3426 C 0.42483 -0.33935 0.4257 -0.3331 0.42917 -0.33125 C 0.43212 -0.3294 0.43577 -0.33033 0.43889 -0.3294 C 0.44375 -0.32848 0.44861 -0.3257 0.4533 -0.32385 C 0.45695 -0.32037 0.46042 -0.31598 0.46441 -0.3125 C 0.46806 -0.30579 0.47275 -0.30047 0.47865 -0.29769 C 0.48681 -0.28727 0.4757 -0.30023 0.48577 -0.29213 C 0.49063 -0.28843 0.49532 -0.28172 0.49861 -0.27523 C 0.50035 -0.26783 0.50035 -0.25625 0.50695 -0.25301 C 0.5092 -0.25185 0.51181 -0.25162 0.51407 -0.25116 C 0.51719 -0.24723 0.52153 -0.24445 0.52413 -0.24005 C 0.52795 -0.23357 0.52986 -0.22523 0.53403 -0.21945 C 0.53611 -0.21111 0.53733 -0.20255 0.54097 -0.19537 C 0.54445 -0.18056 0.54861 -0.16968 0.55382 -0.15625 C 0.5592 -0.1419 0.55452 -0.13588 0.56511 -0.12616 C 0.56858 -0.11945 0.57188 -0.11227 0.57778 -0.10973 C 0.58073 -0.09885 0.58056 -0.08727 0.58351 -0.07616 C 0.58316 -0.03496 0.59288 0.05069 0.57066 0.09514 C 0.56806 0.10555 0.56545 0.11365 0.55938 0.12106 C 0.55851 0.12453 0.55695 0.12824 0.5566 0.13217 C 0.55486 0.15069 0.55972 0.17222 0.54393 0.1787 C 0.53872 0.18565 0.54045 0.18727 0.53247 0.18981 C 0.52535 0.19583 0.52657 0.20185 0.52118 0.20856 C 0.51806 0.22222 0.51059 0.23588 0.49983 0.24004 C 0.4941 0.24768 0.48629 0.25347 0.47865 0.25694 C 0.47639 0.26527 0.47396 0.26342 0.46875 0.26805 C 0.46233 0.28102 0.45556 0.29629 0.4474 0.3074 C 0.44375 0.3125 0.43525 0.31435 0.43056 0.31666 C 0.42466 0.31921 0.41788 0.31759 0.41198 0.31828 C 0.40122 0.32338 0.38924 0.32199 0.37813 0.32592 C 0.34966 0.35046 0.34375 0.34467 0.30295 0.34629 C 0.25591 0.36852 0.22101 0.33865 0.1783 0.33125 C 0.16841 0.32754 0.15868 0.32546 0.14861 0.32199 C 0.14132 0.30787 0.15087 0.325 0.1415 0.31273 C 0.13663 0.30648 0.13438 0.2993 0.12882 0.29398 C 0.12396 0.28495 0.11823 0.27916 0.11025 0.27546 C 0.10886 0.27361 0.10764 0.27152 0.10608 0.27014 C 0.10486 0.26898 0.10313 0.26944 0.10191 0.26805 C 0.10052 0.26666 0.10018 0.26412 0.09896 0.2625 C 0.09688 0.25926 0.09184 0.25324 0.09184 0.25324 C 0.09011 0.24583 0.08525 0.23935 0.08073 0.23449 C 0.07795 0.23171 0.07205 0.22708 0.07205 0.22731 C 0.06858 0.22014 0.06719 0.21273 0.06493 0.20486 C 0.06459 0.20254 0.06198 0.20254 0.06077 0.20115 C 0.05504 0.19514 0.06129 0.19861 0.05365 0.1956 C 0.05157 0.1912 0.04792 0.17523 0.04653 0.17315 C 0.03733 0.16018 0.03229 0.14467 0.02257 0.13217 C 0.01841 0.11504 0.01597 0.09352 0.00834 0.07824 C 0.00157 0.0493 0.00712 0.07453 -2.5E-006 2.96296E-006 Z">
                                      <p:cBhvr>
                                        <p:cTn id="8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C 0.00086 0.01597 -0.00018 0.03379 0.00642 0.04722 C 0.00954 0.06597 0.01093 0.08472 0.01458 0.10347 C 0.01579 0.12013 0.01753 0.15254 0.02413 0.16782 C 0.02691 0.17384 0.03333 0.17407 0.03698 0.17847 C 0.04166 0.18356 0.04427 0.19004 0.04843 0.1956 C 0.0526 0.21226 0.0467 0.19143 0.05312 0.20879 C 0.0559 0.21574 0.05625 0.22152 0.05989 0.22824 C 0.06493 0.24884 0.05989 0.23449 0.06788 0.24745 C 0.06909 0.24976 0.06961 0.25231 0.071 0.25416 C 0.07656 0.25972 0.09618 0.26365 0.10312 0.26458 C 0.11354 0.26898 0.11423 0.27847 0.11788 0.29074 C 0.1217 0.30324 0.12639 0.31504 0.13073 0.32685 C 0.13159 0.32893 0.13125 0.33194 0.13246 0.3331 C 0.14444 0.34953 0.16961 0.34976 0.1842 0.35069 C 0.19809 0.35162 0.2118 0.35231 0.22604 0.35301 C 0.24323 0.36088 0.23246 0.3574 0.26007 0.35926 C 0.31284 0.37847 0.33159 0.36296 0.41493 0.36157 C 0.42378 0.35578 0.43107 0.34976 0.44097 0.34652 C 0.44861 0.33935 0.45416 0.33726 0.46198 0.33125 C 0.46979 0.32523 0.47621 0.31736 0.48437 0.31203 C 0.49201 0.29722 0.50434 0.28611 0.51493 0.27546 C 0.51718 0.27338 0.51927 0.27129 0.5217 0.26898 C 0.52378 0.26689 0.52812 0.2625 0.52812 0.26273 C 0.52882 0.25972 0.52986 0.25671 0.53125 0.25416 C 0.53246 0.25115 0.53507 0.25023 0.53628 0.24745 C 0.54461 0.22731 0.52899 0.25023 0.54253 0.2324 C 0.5467 0.21597 0.5526 0.2 0.55555 0.18287 C 0.55729 0.17338 0.55885 0.1618 0.56215 0.15254 C 0.56284 0.15046 0.56441 0.14907 0.56527 0.14606 C 0.57291 0.12291 0.56458 0.14166 0.5717 0.12685 C 0.5743 0.11643 0.57673 0.10833 0.58125 0.0993 C 0.58281 0.09097 0.58489 0.08333 0.58628 0.07523 C 0.5875 0.05578 0.58958 0.03657 0.59114 0.01736 C 0.59062 -0.03588 0.5927 -0.08912 0.58958 -0.14237 C 0.58923 -0.14723 0.58125 -0.15301 0.58125 -0.15301 C 0.57656 -0.17269 0.57326 -0.1919 0.56215 -0.20672 C 0.55659 -0.22894 0.56527 -0.19537 0.55711 -0.21968 C 0.55573 -0.22385 0.55677 -0.2301 0.55382 -0.23241 C 0.54514 -0.24005 0.53923 -0.25047 0.53264 -0.26088 C 0.52829 -0.26806 0.52257 -0.27431 0.51823 -0.28195 C 0.51632 -0.28612 0.51458 -0.28982 0.51198 -0.29283 C 0.50729 -0.29815 0.50121 -0.30625 0.49583 -0.30973 C 0.4927 -0.31181 0.48923 -0.31297 0.48593 -0.31436 C 0.48437 -0.31505 0.48125 -0.31644 0.48125 -0.31621 C 0.47795 -0.31945 0.47534 -0.32362 0.47135 -0.325 C 0.46354 -0.32871 0.45295 -0.32963 0.44566 -0.33588 C 0.43784 -0.34283 0.43159 -0.35348 0.42326 -0.35926 C 0.41805 -0.36274 0.41232 -0.36598 0.40711 -0.36829 C 0.39305 -0.38565 0.40816 -0.36875 0.3618 -0.37454 C 0.3585 -0.375 0.3552 -0.37778 0.35191 -0.37894 C 0.35034 -0.37963 0.34722 -0.38079 0.34722 -0.38056 C 0.34236 -0.38519 0.33975 -0.38936 0.3342 -0.39167 C 0.3302 -0.39723 0.33055 -0.39792 0.32291 -0.39792 C 0.29184 -0.39792 0.26041 -0.39676 0.22934 -0.39607 C 0.20156 -0.39028 0.21632 -0.39399 0.19375 -0.38774 C 0.19097 -0.38681 0.18559 -0.38519 0.18559 -0.38496 C 0.17777 -0.37824 0.16753 -0.37871 0.15989 -0.37014 C 0.15225 -0.36181 0.1427 -0.35278 0.13715 -0.34213 C 0.13264 -0.33334 0.12882 -0.32848 0.121 -0.325 C 0.11666 -0.31945 0.11336 -0.32014 0.10833 -0.31644 C 0.10486 -0.31389 0.09843 -0.30787 0.09843 -0.30764 C 0.09461 -0.3 0.09062 -0.29676 0.08559 -0.29051 C 0.08211 -0.28658 0.07586 -0.27778 0.07586 -0.27755 C 0.07291 -0.26551 0.07673 -0.27662 0.06944 -0.2669 C 0.06562 -0.26181 0.06319 -0.2551 0.05989 -0.25 C 0.05416 -0.24121 0.04531 -0.23357 0.04027 -0.22385 C 0.03715 -0.21806 0.03316 -0.21297 0.03055 -0.20672 C 0.02986 -0.20463 0.03003 -0.20186 0.02899 -0.20047 C 0.02777 -0.19815 0.02552 -0.19746 0.02413 -0.19607 C 0.02031 -0.1919 0.01805 -0.18542 0.01458 -0.18079 C 0.01284 -0.17431 0.00833 -0.16412 0.00486 -0.15926 C -0.00278 -0.12963 0.00538 -0.16505 3.88889E-006 -0.10996 C -0.00052 -0.10533 -0.0033 -0.09676 -0.0033 -0.09653 C -0.00504 -0.05371 -0.00539 -0.06019 -0.0033 -0.01482 C -0.00243 0.00439 -0.00452 0.00625 3.88889E-006 4.07407E-006 Z">
                                      <p:cBhvr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0.57709 0.00601 E">
                                      <p:cBhvr>
                                        <p:cTn id="9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Овал 8"/>
          <p:cNvSpPr/>
          <p:nvPr/>
        </p:nvSpPr>
        <p:spPr>
          <a:xfrm>
            <a:off x="7143840" y="3857760"/>
            <a:ext cx="342720" cy="357120"/>
          </a:xfrm>
          <a:prstGeom prst="ellipse">
            <a:avLst/>
          </a:prstGeom>
          <a:solidFill>
            <a:srgbClr val="e02cb1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Заголовок 4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изминут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5.92593E-006 C 0.00695 -0.02709 0.00139 -0.07501 -0.01493 -0.09792 C -0.01545 -0.10001 -0.01579 -0.10255 -0.01666 -0.10441 C -0.01753 -0.10626 -0.01927 -0.10718 -0.01996 -0.10904 C -0.02152 -0.1132 -0.02135 -0.1183 -0.02326 -0.12223 C -0.0243 -0.12455 -0.02569 -0.12663 -0.02656 -0.12894 C -0.03159 -0.1426 -0.03368 -0.1588 -0.03663 -0.17339 C -0.03819 -0.1926 -0.04079 -0.20904 -0.04652 -0.22663 C -0.04722 -0.22871 -0.04722 -0.23149 -0.04826 -0.23334 C -0.05329 -0.24191 -0.06076 -0.25001 -0.06666 -0.25788 C -0.07795 -0.27292 -0.08854 -0.28913 -0.1 -0.30441 C -0.10538 -0.31158 -0.11093 -0.31783 -0.11666 -0.32455 C -0.12378 -0.33288 -0.12916 -0.34237 -0.13836 -0.34677 C -0.14583 -0.35649 -0.15833 -0.35788 -0.16823 -0.35996 C -0.17152 -0.36158 -0.17534 -0.36205 -0.17829 -0.36459 C -0.18159 -0.3676 -0.18437 -0.37177 -0.18819 -0.37339 C -0.19149 -0.37478 -0.19826 -0.37779 -0.19826 -0.37779 C -0.20625 -0.38473 -0.20138 -0.38126 -0.21319 -0.38681 C -0.2151 -0.38774 -0.21666 -0.39005 -0.21823 -0.39121 C -0.23263 -0.40047 -0.21388 -0.38589 -0.22829 -0.39561 C -0.23003 -0.39677 -0.23142 -0.39885 -0.23333 -0.40001 C -0.24218 -0.4051 -0.25382 -0.40649 -0.26319 -0.40904 C -0.29166 -0.40857 -0.39062 -0.42501 -0.44496 -0.40001 C -0.44948 -0.39399 -0.45382 -0.3882 -0.45833 -0.38218 C -0.46111 -0.37848 -0.46145 -0.37385 -0.46493 -0.37107 C -0.46788 -0.36853 -0.47187 -0.36876 -0.475 -0.36667 C -0.48159 -0.36205 -0.48767 -0.35649 -0.49496 -0.35348 C -0.50017 -0.34607 -0.50694 -0.34144 -0.51319 -0.33566 C -0.5177 -0.33149 -0.52048 -0.32431 -0.525 -0.32015 C -0.52743 -0.31783 -0.53142 -0.31459 -0.53333 -0.31112 C -0.54392 -0.2926 -0.55364 -0.27339 -0.56823 -0.25996 C -0.57031 -0.25232 -0.57395 -0.24931 -0.57656 -0.24237 C -0.58194 -0.22825 -0.58854 -0.21737 -0.59496 -0.20441 C -0.59548 -0.20232 -0.59566 -0.19978 -0.59652 -0.19792 C -0.59739 -0.19607 -0.5993 -0.19515 -0.6 -0.1933 C -0.60607 -0.17732 -0.6092 -0.15742 -0.61319 -0.14005 C -0.61336 -0.12802 -0.60399 0.00578 -0.61823 0.06666 C -0.61718 0.09444 -0.62066 0.1037 -0.61163 0.12221 C -0.6085 0.13819 -0.60902 0.14883 -0.60659 0.16666 C -0.60503 0.178 -0.59097 0.19444 -0.58333 0.19768 C -0.57899 0.203 -0.57725 0.20647 -0.57152 0.20879 C -0.56632 0.21365 -0.56354 0.21735 -0.55989 0.2243 C -0.55816 0.23448 -0.55694 0.24351 -0.55156 0.25115 C -0.54757 0.26758 -0.54045 0.27916 -0.53159 0.29096 C -0.53038 0.29258 -0.52812 0.29212 -0.52656 0.29328 C -0.5177 0.29907 -0.50937 0.30231 -0.5 0.3067 C -0.49809 0.30763 -0.4967 0.30995 -0.49496 0.3111 C -0.48055 0.32036 -0.4993 0.30578 -0.48489 0.3155 C -0.47968 0.31897 -0.47569 0.32198 -0.46996 0.3243 C -0.45729 0.33587 -0.43993 0.34004 -0.425 0.34444 C -0.41284 0.34791 -0.40017 0.35277 -0.38819 0.35763 C -0.38489 0.35902 -0.38177 0.3618 -0.37829 0.36226 C -0.3717 0.36295 -0.36493 0.36365 -0.35833 0.36434 C -0.33836 0.36897 -0.31823 0.37383 -0.29826 0.37777 C -0.275 0.38726 -0.26128 0.38124 -0.23159 0.37985 C -0.22413 0.37684 -0.21909 0.36967 -0.21163 0.36666 C -0.20989 0.36527 -0.2085 0.36342 -0.20659 0.36226 C -0.20451 0.3611 -0.20208 0.36133 -0.2 0.35995 C -0.19861 0.35902 -0.19791 0.3567 -0.1967 0.35555 C -0.19548 0.35462 -0.18767 0.35161 -0.18663 0.35115 C -0.18194 0.34467 -0.17812 0.34467 -0.17152 0.34212 C -0.16059 0.33772 -0.15052 0.33147 -0.13993 0.32661 C -0.13437 0.3192 -0.12934 0.31689 -0.12326 0.3111 C -0.11441 0.30277 -0.10746 0.29258 -0.09843 0.28448 C -0.08715 0.27476 -0.08073 0.25647 -0.06996 0.24652 C -0.06319 0.23333 -0.05052 0.22592 -0.04496 0.2111 C -0.04253 0.20485 -0.04166 0.19768 -0.03993 0.19096 C -0.03941 0.18888 -0.03819 0.18448 -0.03819 0.18448 C -0.03559 0.16272 -0.02829 0.14513 -0.02326 0.1243 C -0.02152 0.11689 -0.01996 0.10948 -0.01823 0.10208 C -0.01718 0.09768 -0.01493 0.08888 -0.01493 0.08888 C -0.01284 0.07013 -0.00937 0.05184 -0.00659 0.03333 C -0.00555 0.02638 -0.00312 0.0199 -0.00156 0.01319 C -0.00104 0.0111 -3.88889E-006 0.0067 -3.88889E-006 0.0067 C 0.00191 -0.01042 0.00174 -0.00371 0.00174 -0.01343 E">
                                      <p:cBhvr>
                                        <p:cTn id="9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11 0.01319 0.00972 0.00578 0.0033 0.05555 C 0.00156 0.06852 -0.00278 0.0662 -0.00677 0.07338 C -0.01319 0.08472 -0.01614 0.09259 -0.02344 0.10231 C -0.03298 0.11504 -0.0375 0.13565 -0.0434 0.15115 C -0.05312 0.17708 -0.06875 0.19722 -0.08177 0.22014 C -0.08767 0.23032 -0.08906 0.23773 -0.0967 0.24444 C -0.10035 0.25185 -0.10521 0.2625 -0.11007 0.26898 C -0.11423 0.27453 -0.11927 0.27893 -0.12344 0.28449 C -0.12482 0.28634 -0.12552 0.28912 -0.12673 0.29097 C -0.13125 0.29838 -0.13889 0.30648 -0.14496 0.31111 C -0.15885 0.32152 -0.17639 0.32708 -0.19167 0.33333 C -0.19982 0.34051 -0.20903 0.34328 -0.2184 0.34676 C -0.225 0.3493 -0.2316 0.35486 -0.23837 0.35555 C -0.26285 0.35833 -0.25173 0.35694 -0.2717 0.35995 C -0.28594 0.36643 -0.30052 0.36828 -0.3151 0.37338 C -0.33958 0.37268 -0.36389 0.37245 -0.38837 0.37106 C -0.39792 0.3706 -0.40764 0.35764 -0.4151 0.35115 C -0.42413 0.34328 -0.43403 0.33958 -0.4434 0.33333 C -0.4566 0.32453 -0.47048 0.31527 -0.48507 0.31111 C -0.49062 0.30625 -0.49705 0.29861 -0.5033 0.2956 C -0.51111 0.28588 -0.51996 0.27777 -0.5283 0.26898 C -0.53264 0.26412 -0.53542 0.25972 -0.5401 0.25555 C -0.54739 0.24074 -0.55729 0.22083 -0.5684 0.21088 C -0.57482 0.19768 -0.58298 0.18588 -0.5901 0.17338 C -0.59757 0.16018 -0.60139 0.1449 -0.61007 0.13333 C -0.61232 0.12361 -0.61684 0.11597 -0.61996 0.10671 C -0.62135 0.10231 -0.62222 0.09768 -0.62344 0.09328 C -0.62396 0.0912 -0.625 0.0868 -0.625 0.0868 C -0.62378 0.06273 -0.62083 0.04143 -0.6184 0.01782 C -0.61736 -0.02986 -0.61649 -0.07361 -0.61163 -0.11991 C -0.61024 -0.13264 -0.61059 -0.1463 -0.6033 -0.15556 C -0.59601 -0.18658 -0.57118 -0.20047 -0.55833 -0.22662 C -0.55434 -0.2426 -0.54913 -0.25718 -0.54496 -0.27338 C -0.54375 -0.27824 -0.54062 -0.28079 -0.53837 -0.28449 C -0.53125 -0.29653 -0.52396 -0.30371 -0.5151 -0.3132 C -0.5092 -0.31968 -0.49253 -0.33773 -0.48507 -0.34213 C -0.475 -0.34792 -0.46319 -0.34885 -0.4533 -0.35556 C -0.4467 -0.36019 -0.44062 -0.36574 -0.43333 -0.36875 C -0.42917 -0.37431 -0.42326 -0.38542 -0.4184 -0.39098 C -0.39149 -0.42199 -0.32552 -0.40625 -0.30833 -0.40672 C -0.27899 -0.40533 -0.24583 -0.40764 -0.21667 -0.39769 C -0.20417 -0.38102 -0.2184 -0.39792 -0.20677 -0.38889 C -0.20295 -0.38588 -0.20364 -0.3831 -0.2 -0.37986 C -0.19792 -0.37801 -0.19566 -0.37685 -0.1934 -0.37547 C -0.19236 -0.37315 -0.19167 -0.37037 -0.1901 -0.36875 C -0.18871 -0.36736 -0.1868 -0.36736 -0.18507 -0.36667 C -0.17517 -0.3632 -0.16528 -0.35996 -0.15503 -0.35764 C -0.14687 -0.35047 -0.13889 -0.34584 -0.13003 -0.34005 C -0.12587 -0.33426 -0.12239 -0.33125 -0.11667 -0.32894 C -0.11059 -0.32037 -0.11493 -0.3257 -0.1033 -0.31551 C -0.10173 -0.31412 -0.09844 -0.31111 -0.09844 -0.31111 C -0.09618 -0.30672 -0.09253 -0.30301 -0.09167 -0.29769 C -0.08976 -0.28681 -0.09167 -0.29098 -0.08663 -0.28449 C -0.0842 -0.27454 -0.08281 -0.26621 -0.0783 -0.25764 C -0.07413 -0.24098 -0.07101 -0.23959 -0.06337 -0.22431 C -0.06111 -0.21991 -0.05972 -0.21482 -0.05677 -0.21111 C -0.05173 -0.20463 -0.04548 -0.19861 -0.04167 -0.19098 C -0.03837 -0.18449 -0.03663 -0.17778 -0.03333 -0.17107 C -0.02882 -0.15255 -0.02448 -0.13403 -0.01996 -0.11551 C -0.01892 -0.11111 -0.01771 -0.10648 -0.01667 -0.10209 C -0.01614 -0.1 -0.01632 -0.09723 -0.0151 -0.0956 C -0.00781 -0.08588 -0.00538 -0.07523 0 -0.06435 C 0.00052 -0.06204 0.00104 -0.05996 0.00156 -0.05764 C 0.00261 -0.05324 0.00504 -0.04445 0.00504 -0.04445 C 0.00608 -0.03473 0.00729 -0.02523 0.00833 -0.01551 C 0.00868 -0.0132 0.0099 -0.0088 0.0099 -0.0088 E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Овал 8"/>
          <p:cNvSpPr/>
          <p:nvPr/>
        </p:nvSpPr>
        <p:spPr>
          <a:xfrm>
            <a:off x="7143840" y="3857760"/>
            <a:ext cx="342720" cy="357120"/>
          </a:xfrm>
          <a:prstGeom prst="ellipse">
            <a:avLst/>
          </a:prstGeom>
          <a:solidFill>
            <a:srgbClr val="e02cb1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Заголовок 4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изминут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77778E-006 C -0.00399 -0.00579 -0.00642 -0.01042 -0.00833 -0.01783 C -0.0092 -0.06783 0.00017 -0.09977 -0.0184 -0.13565 C -0.02135 -0.14862 -0.02448 -0.16158 -0.0316 -0.1713 C -0.03281 -0.17501 -0.03351 -0.17894 -0.03507 -0.18241 C -0.0375 -0.18797 -0.0434 -0.19792 -0.0434 -0.19792 C -0.0474 -0.21528 -0.05764 -0.22547 -0.06667 -0.23797 C -0.07153 -0.24491 -0.07118 -0.24815 -0.0783 -0.25116 C -0.08299 -0.26065 -0.08976 -0.26505 -0.09687 -0.2713 C -0.11771 -0.28982 -0.13889 -0.29491 -0.16354 -0.30001 C -0.22066 -0.29885 -0.24462 -0.31042 -0.28507 -0.29352 C -0.28802 -0.29075 -0.29219 -0.28982 -0.29514 -0.28681 C -0.2967 -0.28519 -0.29687 -0.28218 -0.29826 -0.2801 C -0.30104 -0.27616 -0.30399 -0.27269 -0.30677 -0.26899 C -0.31406 -0.25927 -0.32552 -0.23079 -0.33003 -0.21783 C -0.33177 -0.2051 -0.33559 -0.19376 -0.33993 -0.18241 C -0.34444 -0.17084 -0.34618 -0.15765 -0.35174 -0.14677 C -0.35365 -0.13334 -0.35556 -0.12315 -0.3566 -0.10903 C -0.35764 -0.07964 -0.35833 -0.03403 -0.3717 -0.00672 C -0.37413 0.00393 -0.37778 0.01249 -0.3816 0.02222 C -0.38507 0.03148 -0.3816 0.02661 -0.38507 0.03773 C -0.38941 0.05138 -0.39549 0.06689 -0.4033 0.07777 C -0.40816 0.0956 -0.41354 0.1037 -0.4217 0.11759 C -0.43229 0.13587 -0.42344 0.12685 -0.43333 0.13541 C -0.44219 0.15323 -0.43056 0.13171 -0.44167 0.14652 C -0.44931 0.15671 -0.4401 0.15092 -0.45 0.15555 C -0.47274 0.18472 -0.49774 0.18425 -0.5283 0.18657 C -0.55521 0.18518 -0.56944 0.18703 -0.59167 0.17777 C -0.59948 0.17083 -0.60781 0.16388 -0.61493 0.15555 C -0.62205 0.14722 -0.62743 0.13564 -0.63507 0.1287 C -0.63733 0.11898 -0.64219 0.11411 -0.64826 0.10879 C -0.65417 0.09745 -0.65781 0.0831 -0.66493 0.07314 C -0.66806 0.06157 -0.67257 0.05208 -0.675 0.03981 C -0.67726 0.028 -0.67882 0.01597 -0.6816 0.00439 C -0.68281 -0.00672 -0.6842 -0.01644 -0.68663 -0.02686 C -0.68733 -0.03589 -0.68993 -0.04445 -0.68993 -0.05348 C -0.68993 -0.08982 -0.68941 -0.12593 -0.68837 -0.16227 C -0.68819 -0.16991 -0.6849 -0.17917 -0.68333 -0.18681 C -0.6776 -0.21575 -0.66892 -0.25232 -0.64497 -0.26227 C -0.63819 -0.26829 -0.63038 -0.27084 -0.62326 -0.2757 C -0.61806 -0.27917 -0.6158 -0.28403 -0.61007 -0.28681 C -0.59809 -0.30209 -0.57917 -0.30649 -0.56337 -0.30903 C -0.50868 -0.30788 -0.45677 -0.31482 -0.40503 -0.29352 C -0.39757 -0.28288 -0.4066 -0.29422 -0.3967 -0.28681 C -0.38993 -0.28172 -0.38733 -0.27431 -0.38003 -0.2713 C -0.37031 -0.25765 -0.38403 -0.27524 -0.3717 -0.26459 C -0.36979 -0.26297 -0.36858 -0.25996 -0.36667 -0.25788 C -0.36337 -0.25417 -0.35885 -0.25163 -0.35503 -0.24908 C -0.34687 -0.2382 -0.35 -0.24352 -0.34497 -0.23334 C -0.34323 -0.22663 -0.33976 -0.20626 -0.33663 -0.20001 C -0.33212 -0.19075 -0.33437 -0.19584 -0.33003 -0.1845 C -0.32708 -0.16505 -0.32309 -0.14561 -0.3184 -0.12686 C -0.31562 -0.11598 -0.31146 -0.10464 -0.31007 -0.09352 C -0.30816 -0.07778 -0.30937 -0.0845 -0.30677 -0.07339 C -0.30347 -0.0426 -0.29913 -0.01274 -0.29514 0.01759 C -0.29236 0.03726 -0.29184 0.06064 -0.28351 0.07777 C -0.28142 0.09097 -0.27917 0.10439 -0.27344 0.1155 C -0.26997 0.12939 -0.26042 0.14235 -0.25 0.14652 C -0.23715 0.15833 -0.22934 0.15925 -0.21354 0.16203 C -0.16632 0.16134 -0.11892 0.16203 -0.0717 0.15995 C -0.06615 0.15972 -0.0566 0.15092 -0.0566 0.15092 C -0.05174 0.14444 -0.04826 0.1405 -0.04167 0.13773 C -0.03663 0.13101 -0.03264 0.12268 -0.02674 0.11759 C -0.01979 0.11134 -0.01267 0.10532 -0.0066 0.09768 C 0.00625 0.06365 0.00104 0.04282 0 -7.77778E-006 Z"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59112E-006 L -0.69375 -0.1827 E">
                                      <p:cBhvr>
                                        <p:cTn id="10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2:36:22Z</dcterms:created>
  <dc:creator>Customer</dc:creator>
  <dc:description/>
  <dc:language>en-US</dc:language>
  <cp:lastModifiedBy>Варвара Сергеевна</cp:lastModifiedBy>
  <dcterms:modified xsi:type="dcterms:W3CDTF">2022-04-11T10:46:23Z</dcterms:modified>
  <cp:revision>25</cp:revision>
  <dc:subject/>
  <dc:title>Тема: Приготовление растворов с определенной массовой долей соли.</dc:title>
</cp:coreProperties>
</file>